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47F-14CA-4A61-B65A-94B6BEBD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55C-389C-4082-8676-0DD4835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082-FE0E-4763-90F6-97E7FAE6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663-923D-476D-8ED9-869E99C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FB9-6C9D-4CE9-819C-AAA1021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331-484C-430D-A486-01BF9C7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4C3-E211-4B85-A30F-6AA04DD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461-3335-45EC-99FF-C8A78CF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76A-0443-4132-87B1-3C1BED15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E90-3BDE-4882-BAD4-88AB5DD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9ED-65E2-4AEB-BB52-AFD4759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B3C-7F32-4E32-9C90-35EDF41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5CB-7AC3-4230-B180-49AE0DFF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GA IBAIA KANPEZU"/>
          <p:cNvPicPr/>
          <p:nvPr/>
        </p:nvPicPr>
        <p:blipFill>
          <a:blip r:embed="rId1"/>
          <a:stretch/>
        </p:blipFill>
        <p:spPr>
          <a:xfrm>
            <a:off x="1547640" y="1916280"/>
            <a:ext cx="5904000" cy="442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620640"/>
            <a:ext cx="2638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GA IBA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58920" y="692280"/>
            <a:ext cx="63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TU GARRANTZITSUAK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205000"/>
            <a:ext cx="5400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Kokapena : Araba eta Nafarr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Luzera : 12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Arroa : 1.497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ria :13,76m³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rburua : Logran (Ar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aia ahoa : Ebrora San Adrianen(Nafarr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1:47:03Z</dcterms:created>
  <dc:creator>ikaslea14</dc:creator>
  <dc:description/>
  <dc:language>en-US</dc:language>
  <cp:lastModifiedBy>ikaslea14</cp:lastModifiedBy>
  <dcterms:modified xsi:type="dcterms:W3CDTF">2012-12-05T12:08:13Z</dcterms:modified>
  <cp:revision>2</cp:revision>
  <dc:subject/>
  <dc:title>Diapositiba 1</dc:title>
</cp:coreProperties>
</file>